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50B70-082D-4FEB-8E2C-06EEF0C4E1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of Hope Diamond from: http://mineralsciences.si.edu/hope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ethyst image from: http://community.mis.temple.edu/gemstones/2014/02/27/amethys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ckwis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ured diamonds image from: http://www.maxsecuritas.co.uk/coloured-diamonds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pphire image from: http://www.navneetgems.com/Blue-Sapph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erald image from: http://en.wikipedia.org/wiki/Emera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by image from: http://en.wikipedia.org/wiki/Ru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1BFE-7FE3-4F0E-9105-03FD4A3B0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B011-9235-40A9-AD42-A1ED8270F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03A4-7560-4317-8992-5014AA87D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7670-DEE3-4844-B714-9E2694E52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04B5-6FFE-4395-92D0-2C0D4C205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FA64-EE5C-47AC-93C8-36630EAF6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56C6-6FBD-4D15-AB23-C1619371A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B62E-C19A-4631-86C0-2B0EAE88A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73DC-0100-4FE3-9F9B-80C08281A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C410-767B-4487-8CBC-58F3835F2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3288-ED81-4E1A-AB5B-C9F58DB2C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9BBA-A637-4DE0-9B41-043150127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B8894-6C4F-49A6-883F-A14304A9AB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ysical Proper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erties of Mat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can use physical properties and chemical properties to describe and sometimes identify sub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648320" y="2800440"/>
            <a:ext cx="380988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ysical Proper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observed or measured without forming a new sub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648320" y="213372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ysical Proper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ysical state (solid, liquid, ga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d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x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ustre (shiny or dul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ttleness (breakabilit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ysical Properties (cont’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lleability (flexibilit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lu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n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bility (if it dissolves in another substan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re the physical properties of these gem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495440" y="4114800"/>
            <a:ext cx="1886040" cy="25146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486400" y="1981080"/>
            <a:ext cx="2438280" cy="2438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5425920" y="4572000"/>
            <a:ext cx="2635560" cy="19810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1079640" y="1981080"/>
            <a:ext cx="264132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a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ysical properties that we ca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scrib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 called qualitat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xample: physical state, odour, colour, texture, lustre, hardness, brittleness, malle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ntita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ysical properties that we ca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easu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 called quantitat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xample: mass, volume, density, temperature, melting point, boiling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6T10:50:36Z</dcterms:created>
  <dc:creator>rubina khan</dc:creator>
  <dc:description/>
  <dc:language>en-US</dc:language>
  <cp:lastModifiedBy>rubina khan</cp:lastModifiedBy>
  <dcterms:modified xsi:type="dcterms:W3CDTF">2014-11-26T11:10:45Z</dcterms:modified>
  <cp:revision>23</cp:revision>
  <dc:subject/>
  <dc:title>Physical Properties</dc:title>
</cp:coreProperties>
</file>